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FF5-2332-4EED-8CDB-48614E85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6AC-C8D3-4E8F-90C8-2D15B25E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0D4-FD64-450F-947F-23A47B55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F64-AF3A-4E01-946C-2DD95A97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3929-AA48-43F9-AF58-0FEC7BAA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3AC3-3628-4F95-9BF0-989F856B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21A1-EA21-4F7D-976C-F65DC031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CD87-2A3C-4CEA-BC42-51D231AD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B299-5724-4E69-957D-E6C06EC2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EBEC-8034-419F-9109-EA64A79A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99D1-EA56-46B2-9744-B660878F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DBC-6D0D-42F3-9D12-D4DCC67C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E26D-C123-4318-B5CD-C3F70D76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FE19-C73C-4332-A1B3-F5B0022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EF82-3470-413F-998A-C87808C7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A0EF-56F3-44D4-B3B7-3599C1A4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7599-FCD6-457B-86F7-FABFAC90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E4015-30F3-47FC-A112-827633E7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D8FB0-F2E0-44AD-90CE-F1AA7E93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029B-269E-44FA-A2E0-26295961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AB04-6B69-4878-8E55-B929CDD1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8C87D-C85F-4317-ABD7-6BA5CDB5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4D8-6158-4102-BCE6-7C1D3742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CC80-1299-4DBF-B743-842054B6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AC29-4AB6-40C0-999B-87B1162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9B4B-12DC-44A2-B2C3-776E864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5D14-D803-40CF-B404-CCD3AE9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D668-F722-4131-96AA-1E8F27CB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3BF4-56BC-4411-9232-8568E459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DE265-28D8-4E2D-BA2A-6F6F9866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3133D-5FBA-46FB-B9C2-4286D2FA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E2B5-46BA-40CA-BB3D-625D3130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FD7F-CAAD-416E-9D51-26C68634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0E2-6EAC-4D2B-8AAD-0824BE87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84C7-CD69-4B93-AB12-62BF2AC5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EA8E8-C899-4F37-8FFF-972D8FE3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CE2EC-60A0-4E4A-9F07-CA3B080A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CEDB-A45B-4114-BD2A-DFBCF017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F7B2-9DF2-40A8-936B-96B85773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96EAB-F7DD-40D5-89A6-A7FC984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06F7-061A-435D-90CA-EEB63F11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D694-E105-4243-9DAC-0F10FBED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C34F-2EBB-4802-A0C2-E412DBC9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31F62-3303-4D88-A029-C186C1C7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A4B-4707-4E3D-82A8-C9D8C983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48E59-AAD3-4D97-87AE-64071DFA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85F0B-84ED-4C2D-B1B1-C6C8AAB5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CD22F-79F7-4E68-B467-9C75255D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01938-6C4F-4A17-B62A-5109DA6F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D3CB2-8A65-4ABB-BFDD-55589A10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FF301-AF5F-4D02-8D74-99B57F3C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066E9-A31F-439D-8272-12AA10E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17762-F4B8-4F46-9D90-3E603B88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404A-E5B5-411D-9EE2-5C28808F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CDD2A-46FA-42A1-875E-BBFCF38E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149-FB3B-4A39-BA22-3A0DB325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51DE-DE1B-47AB-AEB3-DE4416D2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4BB27-2ED8-41F4-9DDA-0A1F1761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4222A-EF20-4D8A-9FC2-1ABCFCAE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376E8-9237-4A75-B0D0-161BD93F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A59FC-95DA-42BE-8BB4-8ED0C7D2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69CEE-C59D-481E-9E80-F3456C34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467D5-6232-410E-8F45-8A25E529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59920-F2C5-4E99-807C-04CD278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4DBB2-84FF-4A1D-8017-5C3EF868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31885-755E-4052-9F78-066D818F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632-C851-40B2-8C84-68E5E7A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FF3A-5436-400C-A250-05F436D4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AF0B2-111E-48BF-8CFA-3B314D0A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E99FF-BB7D-41F9-9D10-17B07F27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32781-38EB-4F93-8882-A72B2315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C50EC-22DF-4865-A8F7-E3A485E5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7E1A-DAC7-45C2-A660-90D024F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9FE08-F471-4CA1-94B2-574BB3CE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1197-A536-452F-AA1F-31C6FCF6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D278-33E9-4E50-B4A3-2F913E38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202E1-4E31-4BC6-89E9-636FAA9A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D66-3516-42CB-AC94-523E08B2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20A76-EDAB-439C-A147-75FE19EA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7BDD2-DBDD-4AE1-A88E-00C57450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69B6-0569-4E51-A815-EB42069D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59C0F-33BE-4587-87D6-BD0854C1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6FF8E-E8AE-438B-99FD-0D5D13AF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95A58-F658-470B-AB56-70CE6DEE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58BC5-A3C5-498F-B5D1-DF601493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6239B-7A97-485A-9845-A1A26FFF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ED831-68F2-4FAE-95EB-A7EFF7FB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8E59D-63D9-4D13-B244-24697EC6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5DC-27E9-40BB-844A-568D869F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9884C-8040-436A-8847-E80591EE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7E986-B568-4B04-BE54-48733E7A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F2341-123A-4779-99FF-D46CAEAE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F8C99-E98F-4A8C-B2E8-FC81B099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E169A-0951-4EE6-9076-F1BD0651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0628E-7BF4-421C-BB88-563FB6C4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D100C-7855-4AEE-BB00-8C2C2111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3BDF-055F-4A7A-9476-8BA1BBF3BD1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F143-FE77-4FB8-9F12-7753B17D24E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0587-6188-4424-A33C-5928C1BFCA0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6129-5B5E-4047-AC9F-87A2FB6973A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9F04-7185-44C7-93FA-5D46A12B507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940A-2251-4706-AB8C-2C14FB920A8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C850-2D31-4A3E-9F24-532AFD7F684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D09C-C4C9-4B22-9A2A-2D4BBBFEF5D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hannelview.isd.esc4.net/technology/PDF/office2007.pdf" TargetMode="External"/><Relationship Id="rId3" Type="http://schemas.openxmlformats.org/officeDocument/2006/relationships/hyperlink" Target="http://www.channelview.isd.esc4.net/technology/PDF/office2007saving.pdf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What’s New - PowerPoin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738600" cy="557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"/>
          <p:cNvPicPr/>
          <p:nvPr/>
        </p:nvPicPr>
        <p:blipFill>
          <a:blip r:embed="rId3"/>
          <a:stretch/>
        </p:blipFill>
        <p:spPr>
          <a:xfrm>
            <a:off x="990720" y="2714760"/>
            <a:ext cx="3181320" cy="571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0" descr=""/>
          <p:cNvPicPr/>
          <p:nvPr/>
        </p:nvPicPr>
        <p:blipFill>
          <a:blip r:embed="rId4"/>
          <a:stretch/>
        </p:blipFill>
        <p:spPr>
          <a:xfrm>
            <a:off x="990720" y="3919680"/>
            <a:ext cx="45003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1143000" y="2743200"/>
            <a:ext cx="2333520" cy="2419200"/>
          </a:xfrm>
          <a:prstGeom prst="rect">
            <a:avLst/>
          </a:prstGeom>
          <a:ln w="0">
            <a:noFill/>
          </a:ln>
        </p:spPr>
      </p:pic>
      <p:sp>
        <p:nvSpPr>
          <p:cNvPr id="409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item on ribbon to display explanation/defin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3"/>
          <a:stretch/>
        </p:blipFill>
        <p:spPr>
          <a:xfrm>
            <a:off x="4191120" y="2666880"/>
            <a:ext cx="3124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Content Placeholder 2"/>
          <p:cNvSpPr/>
          <p:nvPr/>
        </p:nvSpPr>
        <p:spPr>
          <a:xfrm>
            <a:off x="457200" y="1295280"/>
            <a:ext cx="82296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part of standard ribbon ta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 only when object on page is double click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1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805880" cy="55224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2"/>
          <p:cNvSpPr/>
          <p:nvPr/>
        </p:nvSpPr>
        <p:spPr>
          <a:xfrm>
            <a:off x="2133720" y="42670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ple: Table 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ontent Placeholder 2"/>
          <p:cNvSpPr/>
          <p:nvPr/>
        </p:nvSpPr>
        <p:spPr>
          <a:xfrm>
            <a:off x="609480" y="28954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ple: Picture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5443560" cy="681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"/>
          <p:cNvPicPr/>
          <p:nvPr/>
        </p:nvPicPr>
        <p:blipFill>
          <a:blip r:embed="rId4"/>
          <a:stretch/>
        </p:blipFill>
        <p:spPr>
          <a:xfrm>
            <a:off x="2362320" y="5562720"/>
            <a:ext cx="631512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9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format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to se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not chang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at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apply 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657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xt formatting toolbar displays on right cli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37432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212840" y="6480"/>
            <a:ext cx="8089920" cy="9936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2193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What’s New - PowerPoin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380880" y="1981080"/>
            <a:ext cx="82296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New design templates (“themes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New layou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New effects for objects and tex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New charts (“SmartArt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457200" y="1481040"/>
          <a:ext cx="8229600" cy="1490760"/>
        </p:xfrm>
        <a:graphic>
          <a:graphicData uri="http://schemas.openxmlformats.org/drawingml/2006/table">
            <a:tbl>
              <a:tblPr/>
              <a:tblGrid>
                <a:gridCol w="4724280"/>
                <a:gridCol w="350532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97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p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pp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  <p:sp>
        <p:nvSpPr>
          <p:cNvPr id="377" name="TextBox 13"/>
          <p:cNvSpPr/>
          <p:nvPr/>
        </p:nvSpPr>
        <p:spPr>
          <a:xfrm>
            <a:off x="533520" y="3657600"/>
            <a:ext cx="7924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olving Common Convers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788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Office 2007 Converter = </a:t>
            </a:r>
            <a:r>
              <a:rPr b="0" lang="en-US" sz="1800" spc="-1" strike="noStrike" u="sng">
                <a:solidFill>
                  <a:srgbClr val="d787a3"/>
                </a:solidFill>
                <a:uFillTx/>
                <a:latin typeface="Lucida Sans Unicode"/>
                <a:hlinkClick r:id="rId2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788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aving as Lower Version = </a:t>
            </a:r>
            <a:r>
              <a:rPr b="0" lang="en-US" sz="1800" spc="-1" strike="noStrike" u="sng">
                <a:solidFill>
                  <a:srgbClr val="d787a3"/>
                </a:solidFill>
                <a:uFillTx/>
                <a:latin typeface="Lucida Sans Unicode"/>
                <a:hlinkClick r:id="rId3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9" descr=""/>
          <p:cNvPicPr/>
          <p:nvPr/>
        </p:nvPicPr>
        <p:blipFill>
          <a:blip r:embed="rId4"/>
          <a:srcRect l="12142" t="0" r="0" b="0"/>
          <a:stretch/>
        </p:blipFill>
        <p:spPr>
          <a:xfrm>
            <a:off x="1905120" y="2133720"/>
            <a:ext cx="663480" cy="685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0" descr=""/>
          <p:cNvPicPr/>
          <p:nvPr/>
        </p:nvPicPr>
        <p:blipFill>
          <a:blip r:embed="rId5"/>
          <a:srcRect l="13590" t="0" r="0" b="0"/>
          <a:stretch/>
        </p:blipFill>
        <p:spPr>
          <a:xfrm>
            <a:off x="3124080" y="2133720"/>
            <a:ext cx="592200" cy="6858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1" descr="ppt"/>
          <p:cNvPicPr/>
          <p:nvPr/>
        </p:nvPicPr>
        <p:blipFill>
          <a:blip r:embed="rId6"/>
          <a:srcRect l="0" t="0" r="10385" b="0"/>
          <a:stretch/>
        </p:blipFill>
        <p:spPr>
          <a:xfrm>
            <a:off x="6781680" y="2133720"/>
            <a:ext cx="5526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2743200" cy="315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5181480" cy="2139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2209320"/>
            <a:ext cx="144792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20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Content Placeholder 2"/>
          <p:cNvSpPr/>
          <p:nvPr/>
        </p:nvSpPr>
        <p:spPr>
          <a:xfrm>
            <a:off x="4952880" y="4724280"/>
            <a:ext cx="19814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eviou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ver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more drop down me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p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fice Butt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Toolba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410080" y="2438280"/>
            <a:ext cx="24098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b13f9a"/>
                </a:solidFill>
                <a:latin typeface="Lucida Sans Unicode"/>
              </a:rPr>
              <a:t>Office Butt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610160" cy="5362560"/>
          </a:xfrm>
          <a:prstGeom prst="rect">
            <a:avLst/>
          </a:prstGeom>
          <a:ln w="0">
            <a:noFill/>
          </a:ln>
        </p:spPr>
      </p:pic>
      <p:sp>
        <p:nvSpPr>
          <p:cNvPr id="391" name="Content Placeholder 2"/>
          <p:cNvSpPr/>
          <p:nvPr/>
        </p:nvSpPr>
        <p:spPr>
          <a:xfrm>
            <a:off x="457200" y="2057400"/>
            <a:ext cx="44956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laces “File” me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s common tas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customiz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3809880" y="2819520"/>
            <a:ext cx="3448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ribbon tab for type of command you wish to perfo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de/Display Ribb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TRL+F1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menu comma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2"/>
          <a:srcRect l="0" t="0" r="24126" b="0"/>
          <a:stretch/>
        </p:blipFill>
        <p:spPr>
          <a:xfrm>
            <a:off x="533520" y="1143000"/>
            <a:ext cx="617220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5938920" cy="547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"/>
          <p:cNvPicPr/>
          <p:nvPr/>
        </p:nvPicPr>
        <p:blipFill>
          <a:blip r:embed="rId3"/>
          <a:stretch/>
        </p:blipFill>
        <p:spPr>
          <a:xfrm>
            <a:off x="609480" y="2635200"/>
            <a:ext cx="4091040" cy="557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"/>
          <p:cNvPicPr/>
          <p:nvPr/>
        </p:nvPicPr>
        <p:blipFill>
          <a:blip r:embed="rId4"/>
          <a:stretch/>
        </p:blipFill>
        <p:spPr>
          <a:xfrm>
            <a:off x="609480" y="3832200"/>
            <a:ext cx="7758360" cy="557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"/>
          <p:cNvPicPr/>
          <p:nvPr/>
        </p:nvPicPr>
        <p:blipFill>
          <a:blip r:embed="rId5"/>
          <a:stretch/>
        </p:blipFill>
        <p:spPr>
          <a:xfrm>
            <a:off x="609480" y="5029200"/>
            <a:ext cx="776772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20:15:27Z</dcterms:created>
  <dc:creator>Dina Rich</dc:creator>
  <dc:description/>
  <dc:language>en-US</dc:language>
  <cp:lastModifiedBy>Dina Rich</cp:lastModifiedBy>
  <dcterms:modified xsi:type="dcterms:W3CDTF">2010-05-17T13:51:46Z</dcterms:modified>
  <cp:revision>29</cp:revision>
  <dc:subject/>
  <dc:title>Office 2007</dc:title>
</cp:coreProperties>
</file>